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7f00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ff7f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AED3E-6A50-4186-8A6E-23A6B51422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F8F44-9B44-426F-9764-E422FBEC1F6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41B89-D887-4634-AE9C-DD9AC72435D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22989-DD6C-4AD5-BB67-D731008E5B3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04FEA-E56C-48C9-BF89-35B2EEBF20F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02FE5-BC17-43A2-8FFF-2C118E5F223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034BB-8F5D-4A92-8626-736B30DBFC3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DE89A-D31A-41EF-9D99-7AB7A155096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8FEE7-1BFF-442B-96AA-9AACA352C01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07B85-9787-4151-BB6B-320EA021DA1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906405-3FB1-4D79-99BA-9A1C5BF7CF4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7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700280"/>
            <a:ext cx="80024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12200"/>
            <a:ext cx="80024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031198-80FB-418B-92AE-2602E0759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7f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700280"/>
            <a:ext cx="39049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240" y="1700280"/>
            <a:ext cx="39049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12200"/>
            <a:ext cx="39049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57240" y="4012200"/>
            <a:ext cx="39049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F6314A-A88B-4A8A-AA09-71C2FBAAA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7f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700280"/>
            <a:ext cx="25765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2600" y="1700280"/>
            <a:ext cx="25765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68360" y="1700280"/>
            <a:ext cx="25765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12200"/>
            <a:ext cx="25765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2600" y="4012200"/>
            <a:ext cx="25765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68360" y="4012200"/>
            <a:ext cx="25765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6D6430-58B4-4CDF-9ACC-835753EB6FE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0FFAC9-9284-417D-9045-0756F4C7FB0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7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700280"/>
            <a:ext cx="800244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4603C5-5A4E-4D94-80E7-754778D1D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7f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700280"/>
            <a:ext cx="80024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197836-D6D2-4D4B-87E0-081F89EF2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7f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700280"/>
            <a:ext cx="390492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57240" y="1700280"/>
            <a:ext cx="390492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261AE8-E89E-435A-BE92-7EE1E1025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7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1673D6-2807-4E17-BF10-5E9767375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7D8767-B68F-4CF0-86CB-DB177523F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7f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700280"/>
            <a:ext cx="39049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57240" y="1700280"/>
            <a:ext cx="390492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12200"/>
            <a:ext cx="39049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FCDAD7-466A-47CD-BF31-C7F85DF99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7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700280"/>
            <a:ext cx="800244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4D9816-1BA2-4A6D-8EBF-549E884D8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7f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700280"/>
            <a:ext cx="390492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57240" y="1700280"/>
            <a:ext cx="39049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57240" y="4012200"/>
            <a:ext cx="39049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7CA630-3BEA-4FD1-B9D5-D3F30B9E9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7f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700280"/>
            <a:ext cx="39049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57240" y="1700280"/>
            <a:ext cx="39049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12200"/>
            <a:ext cx="80024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81C9FF-94C9-46F9-B0BF-183AB9B50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7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700280"/>
            <a:ext cx="80024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12200"/>
            <a:ext cx="80024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B67559-26D6-431D-B41A-CAE0B79E3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7f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700280"/>
            <a:ext cx="39049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240" y="1700280"/>
            <a:ext cx="39049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12200"/>
            <a:ext cx="39049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57240" y="4012200"/>
            <a:ext cx="39049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FF0CF3-7D8D-4FBE-9DEF-DF37D1263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7f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700280"/>
            <a:ext cx="25765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62600" y="1700280"/>
            <a:ext cx="25765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868360" y="1700280"/>
            <a:ext cx="25765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12200"/>
            <a:ext cx="25765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62600" y="4012200"/>
            <a:ext cx="25765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868360" y="4012200"/>
            <a:ext cx="25765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803E97-F90D-40BD-9EF9-E385B1E79F5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7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700280"/>
            <a:ext cx="80024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D06201-5223-44A2-A648-E8BB2BE1B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7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700280"/>
            <a:ext cx="390492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57240" y="1700280"/>
            <a:ext cx="390492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542B3C-25A1-4753-BC6B-439200613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7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31F2DE-E667-488B-8A69-2D5AD1FD3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4D979E-FA1F-47D9-8E72-42ACFA5C3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7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700280"/>
            <a:ext cx="39049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57240" y="1700280"/>
            <a:ext cx="390492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12200"/>
            <a:ext cx="39049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BE9757-68A8-41DE-9444-15EFF9CC5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7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700280"/>
            <a:ext cx="390492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57240" y="1700280"/>
            <a:ext cx="39049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57240" y="4012200"/>
            <a:ext cx="39049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44E695-A381-4DFE-9FA6-9BD1786CF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7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700280"/>
            <a:ext cx="39049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57240" y="1700280"/>
            <a:ext cx="39049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12200"/>
            <a:ext cx="80024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DE5A1-A7B0-4508-AF8C-E0E4EC086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5e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motionblur1inside"/>
          <p:cNvPicPr/>
          <p:nvPr/>
        </p:nvPicPr>
        <p:blipFill>
          <a:blip r:embed="rId2"/>
          <a:stretch/>
        </p:blipFill>
        <p:spPr>
          <a:xfrm>
            <a:off x="0" y="0"/>
            <a:ext cx="9198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7f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7f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700280"/>
            <a:ext cx="80024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901"/>
              </a:spcBef>
              <a:buClr>
                <a:srgbClr val="ff7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901"/>
              </a:spcBef>
              <a:buClr>
                <a:srgbClr val="ff7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901"/>
              </a:spcBef>
              <a:buClr>
                <a:srgbClr val="ff7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3" marL="1519920" indent="-217080">
              <a:spcBef>
                <a:spcPts val="901"/>
              </a:spcBef>
              <a:buClr>
                <a:srgbClr val="ff7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4" marL="1954440" indent="-217080">
              <a:spcBef>
                <a:spcPts val="901"/>
              </a:spcBef>
              <a:buClr>
                <a:srgbClr val="ff7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5" marL="1954440" indent="-217080">
              <a:spcBef>
                <a:spcPts val="9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6" marL="1954440" indent="-217080">
              <a:spcBef>
                <a:spcPts val="9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92400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D1EC8-DCEC-47E6-853F-6F431592F5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6732720" y="625968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e5e56"/>
                </a:solidFill>
                <a:latin typeface="Times New Roman"/>
              </a:rPr>
              <a:t>your na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5e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0" descr="motionblur1titl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Text Box 8"/>
          <p:cNvSpPr/>
          <p:nvPr/>
        </p:nvSpPr>
        <p:spPr>
          <a:xfrm>
            <a:off x="6732720" y="625968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e5e56"/>
                </a:solidFill>
                <a:latin typeface="Times New Roman"/>
              </a:rPr>
              <a:t>your na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7f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7f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6840" y="1700280"/>
            <a:ext cx="80024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901"/>
              </a:spcBef>
              <a:buClr>
                <a:srgbClr val="ff7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901"/>
              </a:spcBef>
              <a:buClr>
                <a:srgbClr val="ff7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901"/>
              </a:spcBef>
              <a:buClr>
                <a:srgbClr val="ff7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3" marL="1519920" indent="-217080">
              <a:spcBef>
                <a:spcPts val="901"/>
              </a:spcBef>
              <a:buClr>
                <a:srgbClr val="ff7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4" marL="1954440" indent="-217080">
              <a:spcBef>
                <a:spcPts val="901"/>
              </a:spcBef>
              <a:buClr>
                <a:srgbClr val="ff7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5" marL="1954440" indent="-217080">
              <a:spcBef>
                <a:spcPts val="9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6" marL="1954440" indent="-217080">
              <a:spcBef>
                <a:spcPts val="9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3"/>
          </p:nvPr>
        </p:nvSpPr>
        <p:spPr>
          <a:xfrm>
            <a:off x="456840" y="62053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4"/>
          </p:nvPr>
        </p:nvSpPr>
        <p:spPr>
          <a:xfrm>
            <a:off x="3995280" y="62053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0210F-15B2-4CE2-8365-57E73A3CEE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7f00"/>
                </a:solidFill>
                <a:latin typeface="Arial"/>
              </a:rPr>
              <a:t>Integers and the Number Line</a:t>
            </a:r>
            <a:endParaRPr b="0" lang="en-US" sz="8000" spc="-1" strike="noStrike">
              <a:solidFill>
                <a:srgbClr val="ff7f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Which way do I go?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3995640" y="62056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10C63-5961-4D2C-96D0-1EE6E23D67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4" name="04- Blue Train - Zaire.wav" descr=""/>
          <p:cNvPicPr/>
          <p:nvPr/>
        </p:nvPicPr>
        <p:blipFill>
          <a:blip r:embed="rId1"/>
          <a:stretch/>
        </p:blipFill>
        <p:spPr>
          <a:xfrm>
            <a:off x="990720" y="64008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75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75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00200" y="380520"/>
            <a:ext cx="73152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7f00"/>
                </a:solidFill>
                <a:latin typeface="Arial"/>
              </a:rPr>
              <a:t>Constructing a Number Line</a:t>
            </a:r>
            <a:endParaRPr b="0" lang="en-US" sz="4800" spc="-1" strike="noStrike">
              <a:solidFill>
                <a:srgbClr val="ff7f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6840" y="1700280"/>
            <a:ext cx="800244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7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 number line is drawn by choosing a starting position, usually 0, and marking off equal distance from that poi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Slide Number Placeholder 5"/>
          <p:cNvSpPr/>
          <p:nvPr/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5E11B-4605-4E1C-9146-A830BD43E1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Text Box 9"/>
          <p:cNvSpPr/>
          <p:nvPr/>
        </p:nvSpPr>
        <p:spPr>
          <a:xfrm>
            <a:off x="3870360" y="5222880"/>
            <a:ext cx="3825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56840" y="1700280"/>
            <a:ext cx="800244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7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though only a portion of the number line is shown, the arrowheads indicate that the line and the set of numbers contin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Slide Number Placeholder 5"/>
          <p:cNvSpPr/>
          <p:nvPr/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937AD-CE89-4012-93BD-3AE6829BC4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Picture 4" descr="C:\bob's mess\number line.jpg"/>
          <p:cNvPicPr/>
          <p:nvPr/>
        </p:nvPicPr>
        <p:blipFill>
          <a:blip r:embed="rId1"/>
          <a:stretch/>
        </p:blipFill>
        <p:spPr>
          <a:xfrm>
            <a:off x="2438280" y="685800"/>
            <a:ext cx="6400800" cy="65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456840" y="1700280"/>
            <a:ext cx="800244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7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set of numbers used on the number line is called the </a:t>
            </a:r>
            <a:r>
              <a:rPr b="0" i="1" lang="en-US" sz="3600" spc="-1" strike="noStrike">
                <a:solidFill>
                  <a:srgbClr val="ffffff"/>
                </a:solidFill>
                <a:latin typeface="BroadwayD"/>
              </a:rPr>
              <a:t>set of integ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7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s set can be written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{…, -3, -2, -1, 0, 1, 2, 3, …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Slide Number Placeholder 5"/>
          <p:cNvSpPr/>
          <p:nvPr/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458AC-9124-4717-A3E9-02F3041D46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500"/>
                            </p:stCondLst>
                            <p:childTnLst>
                              <p:par>
                                <p:cTn id="36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0"/>
                            </p:stCondLst>
                            <p:childTnLst>
                              <p:par>
                                <p:cTn id="40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456840" y="1700280"/>
            <a:ext cx="800244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7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number line is made up of 3 sets of numb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7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tural numbers 1, 2, 3, 4,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7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ole numbers 0, 1, 3, 4,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7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gers …, -2, -1, 0, 1, 2,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Slide Number Placeholder 5"/>
          <p:cNvSpPr/>
          <p:nvPr/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37B37-780A-4920-9A61-7F4C69ECDE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2819160" y="99072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7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 can use a Venn Diagram to represent thee 3 sets of numbers and their relationship to one anoth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Slide Number Placeholder 5"/>
          <p:cNvSpPr/>
          <p:nvPr/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80A71-9DF2-4ED0-81FB-1879AD3DDD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" name="Picture 4" descr="C:\bob's mess\venn diagram.jpg"/>
          <p:cNvPicPr/>
          <p:nvPr/>
        </p:nvPicPr>
        <p:blipFill>
          <a:blip r:embed="rId1"/>
          <a:stretch/>
        </p:blipFill>
        <p:spPr>
          <a:xfrm>
            <a:off x="3733920" y="3276720"/>
            <a:ext cx="426708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456840" y="1700280"/>
            <a:ext cx="800244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7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ou should not include the number 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7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ou should not include numbers less than 0 (negative number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7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ou should not include the number 6 or any high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Slide Number Placeholder 5"/>
          <p:cNvSpPr/>
          <p:nvPr/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C53DF-B596-4003-BBEC-F1B278F63F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1" name="Picture 5" descr="C:\bob's mess\example1.jpg"/>
          <p:cNvPicPr/>
          <p:nvPr/>
        </p:nvPicPr>
        <p:blipFill>
          <a:blip r:embed="rId1"/>
          <a:stretch/>
        </p:blipFill>
        <p:spPr>
          <a:xfrm>
            <a:off x="2514600" y="304920"/>
            <a:ext cx="6156360" cy="12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16" presetSubtype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500"/>
                            </p:stCondLst>
                            <p:childTnLst>
                              <p:par>
                                <p:cTn id="74" nodeType="afterEffect" fill="hold" presetClass="entr" presetID="16" presetSubtype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6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3000"/>
                            </p:stCondLst>
                            <p:childTnLst>
                              <p:par>
                                <p:cTn id="78" nodeType="afterEffect" fill="hold" presetClass="entr" presetID="16" presetSubtype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0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456840" y="1700280"/>
            <a:ext cx="800244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7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ositive numbers move to the righ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7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egative numbers move to the lef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7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+ 3 + (-8) = -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Slide Number Placeholder 5"/>
          <p:cNvSpPr/>
          <p:nvPr/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76DC2-34C6-4433-B634-BE15D9D8DB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Picture 5" descr="C:\bob's mess\example2.jpg"/>
          <p:cNvPicPr/>
          <p:nvPr/>
        </p:nvPicPr>
        <p:blipFill>
          <a:blip r:embed="rId1"/>
          <a:stretch/>
        </p:blipFill>
        <p:spPr>
          <a:xfrm>
            <a:off x="2133720" y="228600"/>
            <a:ext cx="6608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0"/>
                            </p:stCondLst>
                            <p:childTnLst>
                              <p:par>
                                <p:cTn id="95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7f00"/>
                </a:solidFill>
                <a:latin typeface="Arial"/>
              </a:rPr>
              <a:t>In Summary</a:t>
            </a:r>
            <a:endParaRPr b="0" lang="en-US" sz="4800" spc="-1" strike="noStrike">
              <a:solidFill>
                <a:srgbClr val="ff7f00"/>
              </a:solidFill>
              <a:latin typeface="Arial"/>
            </a:endParaRPr>
          </a:p>
        </p:txBody>
      </p:sp>
      <p:sp>
        <p:nvSpPr>
          <p:cNvPr id="116" name="Slide Number Placeholder 5"/>
          <p:cNvSpPr/>
          <p:nvPr/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92ED2-1C23-49BA-BD16-7034061D45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7" name="Picture 4" descr="C:\bob's mess\integer line.jpg"/>
          <p:cNvPicPr/>
          <p:nvPr/>
        </p:nvPicPr>
        <p:blipFill>
          <a:blip r:embed="rId1"/>
          <a:stretch/>
        </p:blipFill>
        <p:spPr>
          <a:xfrm>
            <a:off x="2590920" y="1676520"/>
            <a:ext cx="6315120" cy="22366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C:\bob's mess\natural numbers.jpg"/>
          <p:cNvPicPr/>
          <p:nvPr/>
        </p:nvPicPr>
        <p:blipFill>
          <a:blip r:embed="rId2"/>
          <a:stretch/>
        </p:blipFill>
        <p:spPr>
          <a:xfrm>
            <a:off x="2971800" y="4191120"/>
            <a:ext cx="5529240" cy="160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6000"/>
                            </p:stCondLst>
                            <p:childTnLst>
                              <p:par>
                                <p:cTn id="108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Home</dc:creator>
  <dc:description/>
  <dc:language>en-US</dc:language>
  <cp:lastModifiedBy>Home</cp:lastModifiedBy>
  <dcterms:modified xsi:type="dcterms:W3CDTF">2010-11-14T17:29:39Z</dcterms:modified>
  <cp:revision>12</cp:revision>
  <dc:subject/>
  <dc:title>PowerPoint Presentation</dc:title>
</cp:coreProperties>
</file>